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istr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CAA2-3374-4060-B212-150BBBA91B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ути оптимизации взаимодействия психолога с педагогическим коллективом и администр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8AB4-8C3F-439C-9D23-85CE7BD430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Чем похожи педагогическая 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оддержка и психологическая помощ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лучения устойчивого результата требуется время и регуля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достичь результата без сотрудничества с родителями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B951-1B6F-4125-8104-6E659C845D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Calibri"/>
              </a:rPr>
              <a:t>Психологи, как врачи, могут иметь различный функционал в зависимости от места работы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ый психоло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в психолого-медико-педагогической коми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в психологическом цент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терапе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0ADD-49E8-4A08-A8BF-9BECDB8561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Школьный психолог похож на школьную медсестр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кольная медсест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лечит хронических заболев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неотлож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т профилактику и делает приви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кольный психол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занимается длительной глубокой психологической работ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срочную психологическую помощ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психопрофилактику  и психодиагност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E4BC-5F41-4250-8859-E1DD7F6BAD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Что делают другие психо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МПК – помогают определить оптимальный образовательный маршр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сихологических центрах – ведут длительную углубленную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терапевты – помогают взрослым людям справиться с психологическими труднос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AECD-1F69-4D8E-A479-226302324E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Чем может помочь школьный психолог учителю в работе с трудным ребенко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же понять причины поведения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новые приемы взаимодействия с 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ать, в помощи какого специалиста ребенок нужд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6ECD-D4F3-4C1B-9BB4-D923BD5FDF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Школьный психол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жет сделать так, чтобы дети перестали ругаться матом … но может  подсказать, как на это реагир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евратит злостного хулигана в отличника … но поможет лучше понять мотивы его поведения и найти новые способы общения с 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ладеет методикой преподавания предмета .. но знает, как справиться со стресс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6626-5F89-4EE5-AF3D-26EFE94DC2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Вместе мы можем больш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5A09-A060-43FA-A654-1E7A3891C9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Что препятствует взаимодействию</a:t>
            </a:r>
            <a:r>
              <a:rPr b="0" lang="ru-RU" sz="1600" spc="-1" strike="noStrike">
                <a:solidFill>
                  <a:srgbClr val="000099"/>
                </a:solidFill>
                <a:latin typeface="Calibri"/>
              </a:rPr>
              <a:t>?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еалистические ожидания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нимания специфики профессиональной деятельности психолога вообще и школьного психолога  в час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80E8-03EF-48F4-8088-AEC0A23069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школьного психолога – повышать осведомленность педагогов и администрации в области психологическ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C327-52BE-4618-A13C-0509939117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едагогам – о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рассказ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специфика психологическ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возможности психоло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содержания деятельности школьного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ем умолч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работы с конкретным ребен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и принципы использования  психодиагностических метод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885B-51CA-4797-9521-FC8996CD03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Уважаемые коллеги! </a:t>
            </a:r>
            <a:br>
              <a:rPr sz="1200"/>
            </a:b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Мы, психологи, хотим рассказать вам о том, чем мы можем быть вам полезны. А также о том, чего мы, к сожалению, не умеем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4019-DCD3-436A-8C0D-1D491A8A96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Педагоги и психологи помогает ребенку, но делают это по-раз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B7DC-B555-4984-AA75-77038E823F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дагогическая поддерж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это превентивная и оперативная помощь в развитии ребёнка, которая направлена на решение его индивидуальных проблем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реальной жизненной ситу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(О.С.Газм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а для решения воспитательных и образовательных зада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6386-E27A-4C3F-8D64-E980CD6684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ихологическая помощ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выражение ребенком эмоций и чувств и формирование необходимых психологических умений (коммуникативных, эмоционально-волевых, поведенческих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искусственно созда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преодолению эмоциональных затруднений, внутренних конфликтов и позволяет освоить новые формы поведе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1A0B-86FA-471E-A647-1613A7E243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мощь ребенку – это не объяснение ребенку норм поведения, а специальные игры и упражнения (в том числе рис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поддержка – это беседа, совет, при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CEDA-E10E-4E01-B339-1F3D283A5B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AA1-FD54-4FA5-9822-9F18EBB3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3E0-C3A0-4146-B32F-4500317A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FD7-37C4-4C19-B2C1-0A29320E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8314-77B2-4694-A481-31565CA0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3778-5A08-4801-867F-84A856D7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001-9D57-41A3-B8FB-B51076D7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E3C-B25B-458C-9529-4415D91F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D6B-F4D9-42D3-A94C-46452824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6426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A66-CB0F-4D91-A378-F21BBBE4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828-AEC8-4C2E-938E-C6F545F1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2D7B-C6D4-4F91-92F5-7194A257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3A0-8AB0-410B-A222-9627A759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istr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E04A-06E5-4C2E-BE52-20F5CD581B0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8591-7D91-40DD-9F42-85784CE32D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130120"/>
            <a:ext cx="7958160" cy="22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Mistral"/>
              </a:rPr>
              <a:t>Пути оптимизации взаимодействия психолога с педагогическим коллективом и администрацией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onstantia"/>
            </a:endParaRPr>
          </a:p>
        </p:txBody>
      </p:sp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57280" y="549000"/>
            <a:ext cx="6462720" cy="18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Mistr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Mistral"/>
              </a:rPr>
              <a:t>       </a:t>
            </a: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Чем похожи педагогическая </a:t>
            </a:r>
            <a:r>
              <a:rPr b="0" lang="en-US" sz="4000" spc="-1" strike="noStrike">
                <a:solidFill>
                  <a:srgbClr val="0000cc"/>
                </a:solidFill>
                <a:latin typeface="Mistral"/>
              </a:rPr>
              <a:t>            </a:t>
            </a: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поддержка и психологическая помощь? 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3240" y="2500200"/>
            <a:ext cx="446112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ля получения устойчивого результата требуется время и регуляр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возможно достичь результата без сотрудничества с родителями ребен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2604960"/>
            <a:ext cx="3888000" cy="2913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87640" y="907560"/>
            <a:ext cx="56707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cc"/>
                </a:solidFill>
                <a:latin typeface="Mistral"/>
              </a:rPr>
              <a:t>       </a:t>
            </a:r>
            <a:r>
              <a:rPr b="0" lang="ru-RU" sz="3600" spc="-1" strike="noStrike">
                <a:solidFill>
                  <a:srgbClr val="0000cc"/>
                </a:solidFill>
                <a:latin typeface="Mistral"/>
              </a:rPr>
              <a:t>Психологи, как врачи, могут иметь различный функционал в зависимости от места работы   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9680" y="2428920"/>
            <a:ext cx="81867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Школьный психолог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лог в психолого-медико-педагогической комиссии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лог в психологическом центр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терапев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43160" y="571320"/>
            <a:ext cx="55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Школьный психолог похож на школьную медсестру: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403848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Школьная медсестра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лечит хронических заболевани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азывает неотложную помощ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дет профилактику и делает прививк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14880" y="2285640"/>
            <a:ext cx="49291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Школьный психолог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занимается длительной глубокой психологической работо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азывает срочную психологическую помощ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водит психопрофилактику  и психодиагностик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073240" y="1073160"/>
            <a:ext cx="6583320" cy="1309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85840" y="2356920"/>
            <a:ext cx="84009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ПМПК – помогают определить оптимальный образовательный маршру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психологических центрах – ведут длительную углубленную работ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терапевты – помогают взрослым людям справиться с психологическими трудностям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14440" y="928440"/>
            <a:ext cx="54435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Mistral"/>
              </a:rPr>
              <a:t>Чем может помочь школьный психолог учителю в работе с трудным ребенком?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2565000"/>
            <a:ext cx="414036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56000" y="2205000"/>
            <a:ext cx="4330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лубже понять причины поведения ребен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йти новые приемы взаимодействия с ни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дсказать, в помощи какого специалиста ребенок нуждаетс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250920" y="2685960"/>
            <a:ext cx="3816360" cy="25354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4" descr=""/>
          <p:cNvPicPr/>
          <p:nvPr/>
        </p:nvPicPr>
        <p:blipFill>
          <a:blip r:embed="rId1"/>
          <a:stretch/>
        </p:blipFill>
        <p:spPr>
          <a:xfrm>
            <a:off x="1712880" y="774720"/>
            <a:ext cx="6943680" cy="1176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может сделать так, чтобы дети перестали ругаться матом … но может  подсказать, как на это реагироват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превратит злостного хулигана в отличника … но поможет лучше понять мотивы его поведения и найти новые способы общения с ни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владеет методикой преподавания предмета .. но знает, как справиться со стрессом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7320" y="642600"/>
            <a:ext cx="58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Mistral"/>
              </a:rPr>
              <a:t>Вместе мы можем больше!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403280" y="2135160"/>
            <a:ext cx="6769080" cy="35100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096320" cy="19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            </a:t>
            </a:r>
            <a:r>
              <a:rPr b="0" lang="ru-RU" sz="4400" spc="-1" strike="noStrike">
                <a:solidFill>
                  <a:srgbClr val="000099"/>
                </a:solidFill>
                <a:latin typeface="Mistral"/>
              </a:rPr>
              <a:t>Что препятствует взаимодействию</a:t>
            </a:r>
            <a:r>
              <a:rPr b="0" lang="ru-RU" sz="4000" spc="-1" strike="noStrike">
                <a:solidFill>
                  <a:srgbClr val="000099"/>
                </a:solidFill>
                <a:latin typeface="Mistral"/>
              </a:rPr>
              <a:t>?</a:t>
            </a:r>
            <a:r>
              <a:rPr b="0" lang="ru-RU" sz="4000" spc="-1" strike="noStrike">
                <a:solidFill>
                  <a:srgbClr val="ffff00"/>
                </a:solidFill>
                <a:latin typeface="Mistr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1844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ереалистические ожидания педагого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тсутствие понимания специфики профессиональной деятельности психолога вообще и школьного психолога  в частно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63640" y="620280"/>
            <a:ext cx="509436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str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384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дача школьного психолога – повышать осведомленность педагогов и администрации в области психологической помощ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4673520" y="2205000"/>
            <a:ext cx="3227400" cy="34527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2146320" y="847800"/>
            <a:ext cx="6510240" cy="1176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то рассказыва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щая специфика психологической помощ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фессиональные возможности психолог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обенности содержания деятельности школьного психоло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 чем умолча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держание работы с конкретным ребенко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держание и принципы использования  психодиагностических методик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2130120"/>
            <a:ext cx="784692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Mistral"/>
              </a:rPr>
              <a:t>Уважаемые коллеги! </a:t>
            </a:r>
            <a:br>
              <a:rPr sz="4800"/>
            </a:br>
            <a:r>
              <a:rPr b="0" lang="ru-RU" sz="4800" spc="-1" strike="noStrike">
                <a:solidFill>
                  <a:srgbClr val="0000cc"/>
                </a:solidFill>
                <a:latin typeface="Mistral"/>
              </a:rPr>
              <a:t>Мы, психологи, хотим рассказать вам о том, чем мы можем быть вам полезны. А также о том, чего мы, к сожалению, не умеем</a:t>
            </a:r>
            <a:br>
              <a:rPr sz="3600"/>
            </a:br>
            <a:endParaRPr b="0" lang="en-US" sz="48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Педагоги и психологи помогает ребенку, но делают это по-разном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5099040" y="1600200"/>
            <a:ext cx="313704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620640"/>
            <a:ext cx="657216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   </a:t>
            </a: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едагогическая поддержка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- это превентивная и оперативная помощь в развитии ребёнка, которая направлена на решение его индивидуальных пробл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в реальной жизненной ситуации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(О.С.Газман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еобходима для решения воспитательных и образовательных задач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0200" y="620640"/>
            <a:ext cx="615816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     </a:t>
            </a: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-291600" algn="just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nstantia"/>
              </a:rPr>
              <a:t>Психологическая помощь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– это выражение ребенком эмоций и чувств и формирование необходимых психологических умений (коммуникативных, эмоционально-волевых, поведенческих)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onstantia"/>
              </a:rPr>
              <a:t>в искусственно созданных условиях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-291600" algn="just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Способствует преодолению эмоциональных затруднений, внутренних конфликтов и позволяет освоить новые формы поведения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42760" y="620640"/>
            <a:ext cx="6015240" cy="22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istral"/>
              </a:rPr>
              <a:t>  </a:t>
            </a:r>
            <a:r>
              <a:rPr b="1" lang="ru-RU" sz="40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9680" y="2356920"/>
            <a:ext cx="81867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Психологическая помощь ребенку – это не объяснение ребенку норм поведения, а специальные игры и упражнения (в том числе рисование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Педагогическая поддержка – это беседа, совет, пример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9:19:31Z</dcterms:created>
  <dc:creator>User</dc:creator>
  <dc:description>Корпорация Майкрософт</dc:description>
  <cp:keywords>Корпорация Майкрософт</cp:keywords>
  <dc:language>en-US</dc:language>
  <cp:lastModifiedBy>LEGION</cp:lastModifiedBy>
  <dcterms:modified xsi:type="dcterms:W3CDTF">2014-11-12T10:12:24Z</dcterms:modified>
  <cp:revision>16</cp:revision>
  <dc:subject>Шаблон оформления</dc:subject>
  <dc:title>ПУТИ ОПТИМИЗ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31791049</vt:lpwstr>
  </property>
</Properties>
</file>